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E11-135D-4099-A4CF-EDC470F2D8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32F2-F143-42D0-84CB-2161EAC863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C36-2BEB-4F9D-8909-3C987A0A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B01-1FF7-4767-874C-4DB4BBC8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CF3-D88F-4318-A5CF-F40305B4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E52-28B9-4AA0-9315-C0353AE2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268-F606-48D5-A705-BC463AF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B22-0AE6-42BC-B28F-1B7EA68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488-93EF-46CD-8946-134D4ED6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407-7ACB-48C0-82F2-3304979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C6A-3E0E-427D-AB74-5161FDC7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5F4-0379-4044-B2F2-A8967DE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8DA-D6B2-4C20-BEBA-84125DD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978-5543-49C9-A3DD-AEC1835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1E18-0730-4259-AD7C-2A56537C5F2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1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2514600"/>
            <a:ext cx="63244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esus threw out the demon which was in the m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the man whom you are see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e ate the meal which the king 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phet offered the sacrifice, because of which the rain c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 this the Messiah for whom we are wait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governor sent the soldiers who arrested Je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4920" y="15238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eak down these complex sentences into two basic sente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word is the antecedent of the relative in these sentenc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010280" y="2529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10280" y="3032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10280" y="3551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10280" y="4043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crif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010280" y="48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ssia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010280" y="5397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ldi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57120" y="1228680"/>
            <a:ext cx="3581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ὁ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ὡ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1360" y="170496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te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usa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81360" y="222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881360" y="26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81360" y="32148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Dative Singu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81360" y="3686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81360" y="421956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(of the artic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881360" y="4724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881360" y="5210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Accusative Singular (of the artic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881360" y="5715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, Femin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881360" y="6235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Dative Plur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2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3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214280"/>
            <a:ext cx="442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λεπω τον δουλον ὁν ἐκαλεσ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ε ἐκ του οἰκου ἐν ᾡ ε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υ ἐστιν τα ποτηρια ἁ φιλ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πιστευσαν γαρ τῳ ἐυαγγελιῳ ὃ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ποστολοι ἐκηρυσσο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παζεσθε οἳ ἐρχονται προς ὑ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ὑτος ἐστιν ὁ κυριος δι’ οὐ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σευξομεθ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198288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ee the slave whom he cal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89640" y="25272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part from the house in which you are 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92520" y="33163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 are the cups for which we lo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606920" y="404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or the believed the good news which the apostles were preac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619520" y="49230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(pl.) the ones who are coming to you (pl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19520" y="56944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the Lord through whom we will p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657440"/>
            <a:ext cx="450036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παζεσθε τον Τιμοθεον ὑπε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ὑ ἡ ἐκκλησια προσευχετ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keeps the bread which he m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necessary to love the God who saves  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you (s.) believe the gospel which you hear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the disciple who denied Jesus rep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99000" y="1568520"/>
            <a:ext cx="45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am saying to you what I heard (w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heard, this I am saying to yo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89640" y="22114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Timothy on whose behalf the church is pray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92520" y="30146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ηρει τον ἀρτον ὁν ἐποιησ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06920" y="371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ι φιλειν τον θεον ὁς σωζει ἡ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19520" y="46022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υεις τῳ εὐαγγελιῳ ὃ ἠκουσ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5278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μαθητης ὁς ἠρνησατο τον Ἰησουν μετενοησε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42920" y="109224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ἁ ἠκουσα ταυτα λεγω ὑμ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5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2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2920" y="1500120"/>
            <a:ext cx="47149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 βλεπ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 φιλεις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ω οὐ φιλω σ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 ἐγ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57760" y="22575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rely you don’t see? / You don’t see, d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57760" y="3071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rely you love me? / You don’t love me, d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57760" y="3887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do not love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57760" y="47228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rely not I? / It is not me, is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85840" y="121428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these sentences include direct or indirect statement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indirect, which Greek Tense would be used in the indirect state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8720" y="2417760"/>
            <a:ext cx="4267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centurion says that he is go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id to him, 'Worship me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women said that he had been bl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oldiers thought that they saw h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blind people said, 'We want to see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n they cried out that he was 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24400" y="2432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24400" y="2887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24400" y="3343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Imperf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24400" y="40971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Ao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24400" y="486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24400" y="5619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1357200"/>
            <a:ext cx="85341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Greek, what case would be used for these time expressio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y came on the Sabbath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fasted for forty day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codemus came by nigh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ree days he was in the tom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 dawn the stone move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was arrested during Pass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4480" y="28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433840" y="337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429160" y="393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29160" y="4489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29160" y="5011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29160" y="5565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Practice 7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4440" y="2700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38:18Z</dcterms:created>
  <dc:creator>Sarah</dc:creator>
  <dc:description/>
  <dc:language>en-US</dc:language>
  <cp:lastModifiedBy>Sarah</cp:lastModifiedBy>
  <dcterms:modified xsi:type="dcterms:W3CDTF">2008-09-10T22:07:20Z</dcterms:modified>
  <cp:revision>17</cp:revision>
  <dc:subject/>
  <dc:title>Slide 1</dc:title>
</cp:coreProperties>
</file>